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breeze.wav" ContentType="audio/x-wav"/>
  <Override PartName="/ppt/media/image9.gif" ContentType="image/gif"/>
  <Override PartName="/ppt/media/explode.wav" ContentType="audio/x-wav"/>
  <Override PartName="/ppt/media/image15.png" ContentType="image/png"/>
  <Override PartName="/ppt/media/image6.gif" ContentType="image/gif"/>
  <Override PartName="/ppt/media/image14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8.jpeg" ContentType="image/jpeg"/>
  <Override PartName="/ppt/media/laser.wav" ContentType="audio/x-wav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030-53A6-4DAA-B2AD-6BE674F1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741-AEC2-46D5-B443-A92ED6E0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3B35-D706-4B31-A7D1-F8989FC8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39A6A-8E62-4A15-B075-67DBE9C3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AE591-6D03-43CA-9645-E428D493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CC605-9ED3-4ABB-9A4B-D475E3F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DEF7E-1B51-4973-ADAE-F54B950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090C1-8C28-47E3-A81E-07AFF241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211B9-3BD4-44E4-9C51-DB5A3AE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55A26-51F8-4BAB-900D-2431B188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BB868-846B-4154-AF64-9F3BD822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8D952-EEDD-4C5F-94DA-B5CDD53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98F-EDFF-4EB3-85A2-00BD1ED8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78434-710A-45F8-8EB4-372E58BB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1E28-98CA-499C-AA2B-3E60842B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41908-0DEE-4FD3-972D-3B2EA147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C8A6C-C4E7-4D90-AA38-E0ADA381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B205-FE41-4C2D-9A59-B9DFE041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6E2AC-AFFA-4F83-A51D-EACC44F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187CE-753A-4972-A3A8-E929C9D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CEA3A-5B2A-4D8B-979B-0A07427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A601-712F-4DCB-994C-938FC998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90C8A-640B-47A7-8BA8-1E60BED7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5F5-F6DD-4B6C-BE28-C9BA991B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BEE02-C223-42B0-9412-4B997B93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42A92-655B-4A88-A2B6-FC8BCE79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4EF23-4D11-423C-B244-D3B7FB70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A244F-6A28-4581-8777-5F65809A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3BCE3-A393-4A42-B845-A50D16A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ED083-9469-4D93-93E5-6DFBDEA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7F7F1-5892-489E-85C5-B0F5C7BB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824A2-0BC2-4903-8B8F-CBD73F71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559B0-577C-4444-A9DA-96AF901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355C2-D9B8-495F-B92E-875E63B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9F7-B573-444E-B8B1-B7FF7500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15704-227F-48C9-AC65-0E39E0C6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16E1-F65E-43EA-81D4-AC3CB770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E00C7-B479-4671-A6F0-1D684703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75E60-663E-4BB5-89D4-83726739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2B6A1-33EA-415A-814F-6E4EAD46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1A4D7-3A61-42AD-8EA8-511CCB3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E0726-268E-46A5-A824-7DF0EDA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2811E-DE34-4A11-A384-4321E3A4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ED671-C6BC-4739-8F8E-7241C3F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7D584-72F5-4CDB-AAE0-B82991D3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17F4-05F2-4BAE-9A80-7AF7124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8E4F4-E3FA-4B6A-80C1-8E621F2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2AE0A-0226-4DD7-A94F-81A4C49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6F52-00D5-402D-83F5-5357451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7D5F7-6ECF-475B-AD2A-919125C2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C8F1C-A95D-42BB-860A-49FF190C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B7D68-1220-4A4E-9CD0-7200CB46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85E6E-EC64-41C5-956B-5403A57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57F71-322A-4354-A5AF-29556D5F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5EC1F-B960-4D25-B1F3-BF94317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3EE1F-D50C-4FA1-B0B1-DD219F1E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A645-C5F5-4B37-BD22-2CD0CE9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6A43E-3CF3-4CE4-BE7A-DEA57878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E93DE-32D9-4164-A6AA-45F1F7B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E5AC0-A4C5-44F1-9827-104525D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E6C2-889C-4775-9EE5-67BD00C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280E2-E445-454F-8098-C8BFFAC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4B3EB-2B63-4F66-AE61-4D94EBAC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5551C-5EB3-49A2-A62C-6D6FDD87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88A90-8BD5-43F0-8F61-8385AB57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BFDFD-12A0-433E-AC8E-3C0B0FA9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761FB-DE81-4715-8E51-E82A02D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93E5-7F0B-4A1C-A660-0D0EE301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03470-06F0-480A-A3E6-E8556F04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1DCA9-4F0D-4F9C-A071-6F72871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34215-5E87-4EB2-AFC6-C1357273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CCC79-72EF-4E97-A44E-40D6072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F40ED-42AA-46BD-8B0B-25616487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47737-3EA4-4F3A-B8D1-0779ED0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00689-22A1-408C-9724-54D648A1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27518-01BB-4743-B79B-00DA851D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BBFDF-F943-422C-97E0-8B255C0D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31F4F-0B4C-48C1-ACC7-A8EF8D01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6BC7-AA69-4B48-8D34-D8B7869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761DD-ECAF-42EE-8E75-5A093BE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017EF-D930-456B-B1BF-5A24FC8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92ACA-B8E4-4B33-A2DD-40E9BCA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90F6D-EBF7-4AF7-B2E0-CA3813C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06FBE-B8AC-4A54-90C8-AF498548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2510F-87FE-4352-8D3A-A39A0C46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256D6-B084-45D3-85A0-0128FC44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541EE-9034-4F1C-8B32-8B43B02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D0A45-0305-414D-92F1-DFF56123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DCC54-9BAD-4280-A949-162B862B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EBE0-B534-4EBC-AD47-94AA435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F9108-22BE-464B-8DEA-E9F5BF28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71A-692F-46C7-B05C-34F6045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997-898C-4B47-BF6B-3FA95086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DCFE-8E2E-47B4-8533-23F6FAC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1BE7-4262-41F7-B892-D2D21D0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150-82E6-4185-B94E-ED104CF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3D1-9A9E-488F-8798-1B546191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2E53-C701-4E72-98C0-A83F5DD3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045D-AB0F-47F6-BF95-2D50FFD1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78D2-329A-49DA-B952-2891A8E7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13A9-68B7-43D7-8F53-19A46639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63DF-4DF2-4D49-8392-7A17B9E5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922F-87B3-4D55-AE87-0A4E106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17C-E85B-4609-8E92-41A85F7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9D7C-EE55-499C-8B80-D10173E0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FBAB-2E93-4E71-A95C-608C483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489D-84E1-4770-9EFF-1E49A8B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22B0-BB46-4192-A74C-DB0BAF3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F028-2F7D-484E-9285-756077E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89E4-2B6C-414A-90A5-714A7BF8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76C9-8CFB-44C8-9121-7D7E4E0F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306F-1EB8-436F-B563-C93C486B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4FBF0-70C9-4BF8-A7A3-1EA5982E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5622-A195-4959-875F-65FB455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BAA-D0B4-4663-87BD-C0F12E68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65C6-DEEB-48A0-8C34-B64535C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26CF6-BC23-4B0F-A631-4D92F6E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1A86-D30E-4A61-8AD3-E366AD55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CCE2-AAB8-46F8-992A-14FB3D92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DE2D-ED6D-47AC-BE09-6782BD3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C002-3066-419A-8AA4-E7AE77C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82E7-1DB9-402D-B0D5-86633242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0079-A130-4373-8DC3-B6FA939D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07AD-6B4A-4BFB-BD2C-3374D001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FB9B-4C59-4786-9E23-0D317DA3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775-E3D8-4D62-9513-AFD8DD9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81BE-89A3-496F-B179-337BD9E4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14AD-9F2B-4C13-A987-CB6D4E87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2B99-F863-4262-9601-20095ED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8183-B10F-47AA-A648-CC1555D5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ED90-6011-4433-91E8-B1F2657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37992-1C18-4FB7-AEE7-8EFF36B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9C0C-B0E5-434F-9E67-251D6A2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2DA8-3958-4C19-8FAF-AC4C76F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9DDC-C68F-4153-AF22-26ED9B5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B299-B687-4D45-82C6-F61F3A89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50B-0F13-4372-AFA8-362BF6D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F8AB-F39F-46A2-8D23-7A057CC4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7CA4-DB51-4DF0-96AC-DE4E6DA4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E095-5EFA-4009-ADA3-EC78A8CD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A3CA-DBC0-4772-AE4B-B5A10C1D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948C-0A9B-4381-9D50-5D11E91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3FD4-A3E1-441E-9170-E895C406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98A4-9049-40D1-A51E-12E5505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96AE3-1DEC-48C9-ADE0-6BD705C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6BF2-8D2D-4CC1-9AED-7CC007A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E5B0A-A23D-4460-9F33-D1A827F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407-DFF9-4875-A175-4392F47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1EE8-3A37-4E94-98FF-E2F9C750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2034-281B-41AF-8B44-983F93DA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D9FE-579D-406F-813D-2C541C67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C8912-8645-4AF2-82FC-1CCD719D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E97D4-6486-4197-8F2F-F0C78F1D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C93D-8C51-4ED1-B7D9-D15EF98F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44E91-D13F-4E3E-A33C-73831DA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1270-894C-4823-BA78-A1702F47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4701-9B7A-40D0-8844-5ABFFBDB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8788-7596-443B-89C3-4F64C8B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D27-CFC9-48EA-9FB9-24D4E5F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2EC38-D4FE-4660-8E85-329E045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4BDB-0D8C-42F8-90A4-6D604B4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E3EAC-1D17-4813-914B-29D07593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C90F-DBE1-403E-807F-FD225931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DA313-018C-4A5C-97F4-D5D730B0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6E47E-4913-4DA1-BDA4-4270C1EB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A024-F7BF-4852-BC3A-20195C8C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0A1AC-BB94-4859-8960-192D971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7F9F-5B44-4F49-96CF-D1943B4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698C1-2A0A-4C2E-BF84-875D4F5C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FA5-8D1C-4083-8EA5-124ADB9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47D9-E308-4CC9-8A9C-8A315928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D1C2-AFD5-4774-97CE-A69FBA0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9C722-7A3E-409F-A28E-4E2E635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BCE1A-6830-4A51-848B-B5FA7385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5BB8-83FD-414A-927C-E9048B84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CC7AA-F7E1-42E2-9875-6E128610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D141-47CC-4E15-A02C-88B6EC93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DDE55-2122-41B0-A2FB-3B421907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8F8B2-EFF8-449B-87DA-0D9D1E5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4ECC4-791D-4675-AA62-8791A64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CFC-9EF5-46D6-89BD-F5F10024CCC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A63-8E86-4E22-8666-A94A139C7B82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EC12-EFB4-45E0-BE41-8A6D702A8DE1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879-9C48-46EF-A793-F8ADFCF39DD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CC22-F73B-46F6-A198-6E7738E8C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56C2-B958-4D36-BDAE-76AAEAECB3D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A14E-3C94-4A9B-8AC6-13EBE874D4C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DF5E-9CCB-4BC9-B8D0-7B17B2C9746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0BF-7494-4823-8028-D9A74BFD522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11CD-AB46-4FFE-803A-29E3A2D10FB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DB3F-2FB5-4DAF-97BB-ECA03C039EF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0D4B-C079-4C1E-B525-02E29EF1496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7F74-E163-4EAC-A3A4-D71E84F2170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7276-7789-48EE-9A40-C62CED617CF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4603-7475-4C69-A2E9-75911EF2FBF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93080" cy="31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veman"/>
              </a:rPr>
              <a:t>THE THREE STATES</a:t>
            </a:r>
            <a:br>
              <a:rPr sz="40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Caveman"/>
              </a:rPr>
              <a:t>OF</a:t>
            </a:r>
            <a:br>
              <a:rPr sz="32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MATT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ve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438280" y="3733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By: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Salome Matano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Hobgood Elementay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232"/>
                </a:solidFill>
                <a:latin typeface="Perpetua Titling MT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Matter is anything t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takes up space 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and </a:t>
            </a:r>
            <a:r>
              <a:rPr b="0" lang="en-US" sz="3600" spc="-1" strike="noStrike">
                <a:solidFill>
                  <a:srgbClr val="008000"/>
                </a:solidFill>
                <a:latin typeface="Calisto MT"/>
              </a:rPr>
              <a:t>has mass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8000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Properties of Matter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4" name="Content Placeholder 3" descr=""/>
          <p:cNvPicPr/>
          <p:nvPr/>
        </p:nvPicPr>
        <p:blipFill>
          <a:blip r:embed="rId1"/>
          <a:stretch/>
        </p:blipFill>
        <p:spPr>
          <a:xfrm>
            <a:off x="774720" y="1828800"/>
            <a:ext cx="7588080" cy="4297320"/>
          </a:xfrm>
          <a:prstGeom prst="rect">
            <a:avLst/>
          </a:prstGeom>
          <a:ln w="0">
            <a:noFill/>
          </a:ln>
        </p:spPr>
      </p:pic>
      <p:pic>
        <p:nvPicPr>
          <p:cNvPr id="645" name="Diagram 6" descr=""/>
          <p:cNvPicPr/>
          <p:nvPr/>
        </p:nvPicPr>
        <p:blipFill>
          <a:blip r:embed="rId2"/>
          <a:stretch/>
        </p:blipFill>
        <p:spPr>
          <a:xfrm>
            <a:off x="1523880" y="1268280"/>
            <a:ext cx="6096240" cy="433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SOLID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7" name="Picture 5" descr="j0283725"/>
          <p:cNvPicPr/>
          <p:nvPr/>
        </p:nvPicPr>
        <p:blipFill>
          <a:blip r:embed="rId1"/>
          <a:srcRect l="0" t="21948" r="0" b="21948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" descr="MPj03961280000[1]"/>
          <p:cNvPicPr/>
          <p:nvPr/>
        </p:nvPicPr>
        <p:blipFill>
          <a:blip r:embed="rId2"/>
          <a:srcRect l="0" t="32006" r="0" b="32006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MPj03873030000[1]"/>
          <p:cNvPicPr/>
          <p:nvPr/>
        </p:nvPicPr>
        <p:blipFill>
          <a:blip r:embed="rId3"/>
          <a:stretch/>
        </p:blipFill>
        <p:spPr>
          <a:xfrm>
            <a:off x="1751040" y="2135160"/>
            <a:ext cx="2192400" cy="2189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  <p:sndAc>
      <p:stSnd>
        <p:snd r:embed="rId4" name="laser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68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68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ffffff"/>
                </a:solidFill>
                <a:latin typeface="FlashDLig"/>
              </a:rPr>
              <a:t>Liquids</a:t>
            </a:r>
            <a:endParaRPr b="0" lang="en-US" sz="116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51" name="Picture 3" descr="j0282866"/>
          <p:cNvPicPr/>
          <p:nvPr/>
        </p:nvPicPr>
        <p:blipFill>
          <a:blip r:embed="rId1"/>
          <a:stretch/>
        </p:blipFill>
        <p:spPr>
          <a:xfrm>
            <a:off x="992160" y="2692440"/>
            <a:ext cx="2860560" cy="1936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j0112668[1]"/>
          <p:cNvPicPr/>
          <p:nvPr/>
        </p:nvPicPr>
        <p:blipFill>
          <a:blip r:embed="rId2"/>
          <a:srcRect l="0" t="6449" r="0" b="6449"/>
          <a:stretch/>
        </p:blipFill>
        <p:spPr>
          <a:xfrm>
            <a:off x="4797360" y="1828800"/>
            <a:ext cx="3565440" cy="42973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breeze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68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68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GA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1540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5" name="Picture 4" descr="j0181469"/>
          <p:cNvPicPr/>
          <p:nvPr/>
        </p:nvPicPr>
        <p:blipFill>
          <a:blip r:embed="rId1"/>
          <a:stretch/>
        </p:blipFill>
        <p:spPr>
          <a:xfrm>
            <a:off x="2057400" y="243828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explode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By adding energy the state changes.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plasma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Solidoga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liqu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ol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8" name="Picture 402" descr="MCj02158370000[1]"/>
          <p:cNvPicPr/>
          <p:nvPr/>
        </p:nvPicPr>
        <p:blipFill>
          <a:blip r:embed="rId1"/>
          <a:stretch/>
        </p:blipFill>
        <p:spPr>
          <a:xfrm>
            <a:off x="1447920" y="56386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04" descr="MCj04348160000[1]"/>
          <p:cNvPicPr/>
          <p:nvPr/>
        </p:nvPicPr>
        <p:blipFill>
          <a:blip r:embed="rId2"/>
          <a:stretch/>
        </p:blipFill>
        <p:spPr>
          <a:xfrm>
            <a:off x="3048120" y="45720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06" descr="MCj04417500000[1]"/>
          <p:cNvPicPr/>
          <p:nvPr/>
        </p:nvPicPr>
        <p:blipFill>
          <a:blip r:embed="rId3"/>
          <a:stretch/>
        </p:blipFill>
        <p:spPr>
          <a:xfrm>
            <a:off x="4267080" y="3657600"/>
            <a:ext cx="828720" cy="847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07" descr="MCj04348160000[1]"/>
          <p:cNvPicPr/>
          <p:nvPr/>
        </p:nvPicPr>
        <p:blipFill>
          <a:blip r:embed="rId4"/>
          <a:stretch/>
        </p:blipFill>
        <p:spPr>
          <a:xfrm>
            <a:off x="5638680" y="251460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09" descr="MCj04413910000[1]"/>
          <p:cNvPicPr/>
          <p:nvPr/>
        </p:nvPicPr>
        <p:blipFill>
          <a:blip r:embed="rId5"/>
          <a:stretch/>
        </p:blipFill>
        <p:spPr>
          <a:xfrm>
            <a:off x="6934320" y="1600200"/>
            <a:ext cx="990360" cy="9525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0"/>
          <p:cNvSpPr/>
          <p:nvPr/>
        </p:nvSpPr>
        <p:spPr>
          <a:xfrm>
            <a:off x="2595960" y="5334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5186520" y="3276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6477120" y="2286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15"/>
          <p:cNvSpPr/>
          <p:nvPr/>
        </p:nvSpPr>
        <p:spPr>
          <a:xfrm>
            <a:off x="259668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16"/>
          <p:cNvSpPr/>
          <p:nvPr/>
        </p:nvSpPr>
        <p:spPr>
          <a:xfrm>
            <a:off x="549288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17"/>
          <p:cNvSpPr/>
          <p:nvPr/>
        </p:nvSpPr>
        <p:spPr>
          <a:xfrm>
            <a:off x="8233560" y="2590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                   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      </a:t>
            </a: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THE END</a:t>
            </a: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9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4:32Z</dcterms:created>
  <dc:creator>mmasters</dc:creator>
  <dc:description/>
  <dc:language>en-US</dc:language>
  <cp:lastModifiedBy>salome.matano</cp:lastModifiedBy>
  <dcterms:modified xsi:type="dcterms:W3CDTF">2012-03-31T15:58:47Z</dcterms:modified>
  <cp:revision>27</cp:revision>
  <dc:subject/>
  <dc:title>THE THREE STATES  OF MATTER  </dc:title>
</cp:coreProperties>
</file>